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DF93-5C1D-4213-82EF-BAF3B46D2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CB29-5789-46D9-BEC6-8CA09B70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7260-16AB-4F93-A0C3-DEAAA20D6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DFBE-5F3D-408C-9DB9-C10812B8C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12A7-A7F5-4281-9C82-8EB26D53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038A-890C-4C76-9DBF-5FEAA7F9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B1B1-3FDF-4BBF-A315-C25091F7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9CA8-658C-4EA6-8B96-25AA6DE4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AE3F-27A4-4C87-B1AD-B3FDBE22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BA8F-08A3-4151-B4E9-B16C37EC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BC50-6709-4A40-BE10-E86DABBD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F61D-7A1C-4275-8346-F21C6117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C6A4-6DC7-4440-860C-5C57AC561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A599-CAC7-4FBD-AF09-85E5B42C51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3114720"/>
            <a:ext cx="799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7640" y="799200"/>
            <a:ext cx="80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Точка обмена трафиком (Internet Exchange Poin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Точка обмена трафиком"/>
          <p:cNvPicPr/>
          <p:nvPr/>
        </p:nvPicPr>
        <p:blipFill>
          <a:blip r:embed="rId1"/>
          <a:stretch/>
        </p:blipFill>
        <p:spPr>
          <a:xfrm>
            <a:off x="826920" y="1700280"/>
            <a:ext cx="7417080" cy="3274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9640" y="5445000"/>
            <a:ext cx="817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A-E – пограничные BGP-маршрутизаторы, АС1-АС5 – сети автономных систем, RS – сервер маршрутной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7280" y="6058080"/>
            <a:ext cx="8496360" cy="363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9280" y="3228840"/>
            <a:ext cx="79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7640" y="946080"/>
            <a:ext cx="774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Исключение маршрутного сервера из маршрута производится путем установки значения атрибута NEXT_HOP: анонсируя маршруты в сеть АС1, сервер RS указывает NEXT_HOP=A. Таким образом, маршрутизатор (например, Е), получивший и принявший к использованию такой маршрут, будет пересылать данные, предназначенные для АС1, непосредственно маршрутизатору 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6562-3402-40D2-B6CD-C99331917E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7280" y="123336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2992320"/>
            <a:ext cx="806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585360"/>
            <a:ext cx="78850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3. Атрибуты пути (Path Attribut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3.1.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ORIGIN (тип 1) – обязательный атрибут, указывающий источник информации о маршрут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0 – IGP (информация о достижимости сети получена от протокола внутренней маршрутизации или введена администратором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E974-E0FA-4E34-A69F-356C9F2779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7280" y="126828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7640" y="3075120"/>
            <a:ext cx="7813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2197440"/>
            <a:ext cx="777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1 – EGP (информация о достижимости сети импортирована из устаревшего протокола EGP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 – INCOMPLETE (информация получена другим образом, например, RIP-&gt;OSPF-&gt;BGP или BGP-&gt;OSPF-&gt;BGP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5FC0-5DEB-4BC3-AA10-544BE4DABD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6360" y="3230640"/>
            <a:ext cx="8028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1671840"/>
            <a:ext cx="8029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Атрибут ORIGIN вставляется маршрутизатором, который генерирует информацию о маршруте, и при последующем анонсировании маршрута другими маршрутизаторами не изменяется. Атрибут фактически определяет надежность источника информации о маршруте (наиболее надежный ORIGIN=0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8CE4-B841-4A89-8862-36DC4B9B32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3191040"/>
            <a:ext cx="799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1110240"/>
            <a:ext cx="788508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3.2. AS_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AS_PATH (тип 2) – обязательный атрибут, содержащий список автономных систем, через которые должна пройти дейтаграмма на пути в указанную в маршруте сеть. AS_PATH представляет собой чередование сегментов двух типов: AS_SEQUENCE – упорядоченный список АС, и AS_SET – множество А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6032-5A1D-41F9-B65A-B6B6833A11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6360" y="320508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7640" y="1570680"/>
            <a:ext cx="7740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3.3. NEXT_H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NEXT_HOP (тип 3) – обязательный атрибут, указывающий адрес следующего BGP-маршрутизатора на пути в заявленную сеть (см. обсуждение в п. 7.2); может совпадать или не совпадать с адресом BGP-узла, анонсирующего маршру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F9A1-3990-45A6-B995-4A6F4863E4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3141720"/>
            <a:ext cx="7956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1427400"/>
            <a:ext cx="810108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3.4. MULTI_EXIT_DIS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MULTI_EXIT_DISC (тип 4) – необязательный атрибут, представляющий собой приоритет использования объявляющего маршрутизатора для достижения через него анонсируемой сети, то есть фактически это метрика маршрута с точки зрения анонсирующего маршрут BGP-уз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51F0-6E34-459B-A601-945146AA33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8920" y="1233360"/>
            <a:ext cx="849600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7640" y="3259080"/>
            <a:ext cx="788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2000" y="1868400"/>
            <a:ext cx="77407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3.5. LOCAL_PR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LOCAL_PREF (тип 5) – необязательный атрибут, устанавливающий для данной АС приоритет данного маршрута среди всех маршрутов к заявленной сети, известных внутри 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F8EC-C5F5-4232-87D2-056A6BA53C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657360"/>
            <a:ext cx="849636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1640" y="3170160"/>
            <a:ext cx="817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9280" y="1485720"/>
            <a:ext cx="781344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3.6. Атрибуты агрег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ATOMIC_AGGREGATE (тип 6) и AGGREGATOR (тип 7) – необязательные атрибуты, связанные с операциями агрегирования (объединения) нескольких маршрутов в один. Для более детального ознакомления с ними отсылаем читателей к документу RFC-177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ahoma"/>
              </a:rPr>
              <a:t>Тема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ahoma"/>
              </a:rPr>
              <a:t>Протокол B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7D72-67D8-4843-8EF1-38EAC4F76F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3139920"/>
            <a:ext cx="792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2072160"/>
            <a:ext cx="77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4. Обработка маршрутной информации (Decision Process) и маршрутные поли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4.1. Decision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66C1-9EAA-494A-9D74-7C50A61D5C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ff"/>
                </a:solidFill>
                <a:latin typeface="Tahoma"/>
              </a:rPr>
              <a:t>Обработка маршрутной информации модулем BG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305000"/>
            <a:ext cx="878544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320D-29D4-4646-B64B-E74720D294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Конфликты маршрутных полит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8920" y="2060640"/>
            <a:ext cx="838836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7645-3654-43CC-AAD3-93F6A52CAE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регулярное выражение для значения AS_PATH (частные случаи: номер конечной АС маршрута, АС соседа, от которого получен маршрут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адрес сети, в которую ведет маршру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адрес соседа, приславшего информацию о маршрут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исхождение маршрута (атрибут ORIGI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тбор маршрутов из базы Adj-RIB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9305-A729-4A87-994E-C63175FD31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не принимать маршрут – удалить из Adj-RIBsIn (фильтрация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становить административный вес маршрут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становить значение атрибута LOCAL_PREF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становить маршрут в качестве маршрута по умолч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олитика к удовлетворяющему критер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E300-304C-4D23-B868-F8DC9168D4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регулярное выражение для значения AS_PATH (частные случаи: номер конечной АС маршрута, АС соседа, от которого получен маршрут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адрес сети, в которую ведет маршру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адрес соседа, которому этот маршрут объявляет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исхождение маршрута (атрибут ORIGI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тбор маршрутов в базу Adj-RIBs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5F16-78BA-4319-9093-A347B00121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не объявлять маршрут (фильтрация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MULTI_EXIT_DISC: не устанавливать, установить указанное значение, взять в качестве значения метрику маршрута из IG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роизвести агрегирование сетей в общий префикс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одифицировать AS_PATH указанным образо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заменить маршрут на defaul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олитика к удовлетворяющему критер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B909-D4E9-4A37-BF9E-0B0E3DEDB0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ара BGP-соседей устанавливает между собой соединение по протоколу TCP, порт 179. Соседи, принадлежащие разным АС, должны быть доступны друг другу непосредственно; для соседей из одной АС такого ограничения нет, поскольку протокол внутренней маршрутизации обеспечит наличие всех необходимых маршрутов между узлами одной автономной систе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ahoma"/>
              </a:rPr>
              <a:t>5.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Реализация B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1016-2C5E-41CE-8F69-B7DCF57AD4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OPEN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– посылается после установления TCP-соединения. Ответом на OPEN является сообщение KEEPALIVE, если вторая сторона согласна стать BGP-соседом; иначе посылается сообщение NOTIFICATION с кодом, поясняющим причину отказа, и соединение разрыва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KEEPALIVE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– сообщение предназначено для подтверждения согласия установить соседские отношения, а также для мониторинга активности открытого соединения: для этого BGP-соседи обмениваются KEEPALIVE-сообщениями через определенные интервалы време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Типы BGP-сооб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3F88-D825-43B8-A78F-AB6C3CA34D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UPDATE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– сообщение предназначено для анонсирования и отзыва маршрутов. После установления соединения с помощью сообщений UPDATE пересылаются все маршруты, которые маршрутизатор хочет объявить соседу (full update), после чего пересылаются только данные о добавленных или удаленных маршрутах по мере их появления (partial updat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Типы BGP-сооб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47640" y="3263760"/>
            <a:ext cx="8137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413640"/>
            <a:ext cx="777708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одерж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Задача внешней маршрут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Внутренний BGP, маршрутные серверы и атрибут NEXT_H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宋体"/>
              </a:rPr>
              <a:t>Атрибуты пути (Path Attributes)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бработка маршрутной информации (Decision Process) и маршрутные полит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宋体"/>
              </a:rPr>
              <a:t>Реализация BGP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7081-723F-46EE-AA84-B6BCB41E62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NOTIFICATION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– сообщение этого типа используется для информирования соседа о причине закрытия соединения. После отправления этого сообщения BGP-соединение закрыва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Типы BGP-сооб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DF8B-890E-4FF3-A291-8EA3D79F3045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16 октетов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- маркер: в сообщении OPEN всегда, и при раб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㔾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Ґе без аутентификации - в других собщениях, заполнен единицами. Иначе содержит аутентификационную информацию. Сопутствующая функция маркера - повышение надежности выделения границы сообщения в потоке да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2 октета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- длина сообщения в октетах, включая заголов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1 октет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- тип сооб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Формат BGP-сооб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66ff"/>
                </a:solidFill>
                <a:latin typeface="Tahoma"/>
              </a:rPr>
              <a:t>Вопросы для самопроверки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Назовите тип протокола маршрутизации BG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к называется связующая сеть BGP-системы не принадлежит ни к одной автономной систе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С помощью чего соединяются автономные BGP-систе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то такое тупиковая автономная система протокола BG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то такое многопортовая автономная система протокола BG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 чем состоят положительные и отрицательные особенности протокола BG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Хелеби С., Мак-Ферсон Д. Принципы маршрутизации в Internet, 3-е издание. – М.: "Вильямс"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C900-C6BA-465F-AEA7-B2E2C102C1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3147840"/>
            <a:ext cx="817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6360" y="1494000"/>
            <a:ext cx="79200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Задача внешней маршрут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–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остроение маршрутов между сетями, принадлежащими разным автономным систем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CA1F-A93B-4198-8440-34F6376334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3154320"/>
            <a:ext cx="795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836280"/>
            <a:ext cx="77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Внутреннее строение автономных систем скрыто, известны только адреса IP-сетей, составляющих А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Автономные системы"/>
          <p:cNvPicPr/>
          <p:nvPr/>
        </p:nvPicPr>
        <p:blipFill>
          <a:blip r:embed="rId1"/>
          <a:stretch/>
        </p:blipFill>
        <p:spPr>
          <a:xfrm>
            <a:off x="934920" y="2384280"/>
            <a:ext cx="72010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9986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0710-9F05-40A9-A296-8F4582A10C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3098880"/>
            <a:ext cx="828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8920" y="793800"/>
            <a:ext cx="8245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2. Внутренний BGP, маршрутные серверы и атрибут NEXT_H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BGP-маршрутизаторы, находящиеся в одной АС, также должны обмениваться между собой маршрутной информацией. Это необходимо для согласованного отбора внешних маршрутов в соответствии с политикой данной АС и для передачи транзитных маршрутов через автономную систе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37DC-2A73-447F-974D-03777F2A44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7640" y="3152880"/>
            <a:ext cx="7777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9280" y="1879560"/>
            <a:ext cx="7705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Такой обмен производится также по протоколу BGP, который в этом случае часто называется IBGP (Internal BGP), (соответственно, протокол обмена маршрутами между маршрутзаторами разных АС обозначается EBGP –External BGP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52C8-71C2-49A4-B47E-AF77153AC09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9280" y="1700280"/>
            <a:ext cx="78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1842120"/>
            <a:ext cx="777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Таким образом, участникам группы нет необходимости устанавливать BGP-соединения попарно; вместо этого каждый участник устанавливает одно соединение с сервером. из различных 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4FAE-EB7B-4602-AE08-BC2DB972E0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8920" y="800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1521000"/>
            <a:ext cx="7597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6360" y="983160"/>
            <a:ext cx="7920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Группой маршрутизаторов могут быть, например, все BGP-маршрутизаторы данной АС, однако маршрутные серверы могут применяться для уменьшения числа соединений также и на внешних BGP-соединениях – в случае, когда в одной физической сети находится много BGP-маршрутизаторов из различных 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54:19Z</dcterms:modified>
  <cp:revision>155</cp:revision>
  <dc:subject/>
  <dc:title>Lecture Template </dc:title>
</cp:coreProperties>
</file>